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89.wmf" ContentType="image/x-wmf"/>
  <Override PartName="/ppt/media/image15.wmf" ContentType="image/x-wmf"/>
  <Override PartName="/ppt/media/image12.wmf" ContentType="image/x-wmf"/>
  <Override PartName="/ppt/media/image14.wmf" ContentType="image/x-wmf"/>
  <Override PartName="/ppt/media/image175.wmf" ContentType="image/x-wmf"/>
  <Override PartName="/ppt/media/image83.wmf" ContentType="image/x-wmf"/>
  <Override PartName="/ppt/media/image10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186.wmf" ContentType="image/x-wmf"/>
  <Override PartName="/ppt/media/image24.wmf" ContentType="image/x-wmf"/>
  <Override PartName="/ppt/media/image185.wmf" ContentType="image/x-wmf"/>
  <Override PartName="/ppt/media/image2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270.wmf" ContentType="image/x-wmf"/>
  <Override PartName="/ppt/media/image202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274.wmf" ContentType="image/x-wmf"/>
  <Override PartName="/ppt/media/image206.wmf" ContentType="image/x-wmf"/>
  <Override PartName="/ppt/media/image260.wmf" ContentType="image/x-wmf"/>
  <Override PartName="/ppt/media/image59.wmf" ContentType="image/x-wmf"/>
  <Override PartName="/ppt/media/image280.wmf" ContentType="image/x-wmf"/>
  <Override PartName="/ppt/media/image212.wmf" ContentType="image/x-wmf"/>
  <Override PartName="/ppt/media/image102.wmf" ContentType="image/x-wmf"/>
  <Override PartName="/ppt/media/image275.wmf" ContentType="image/x-wmf"/>
  <Override PartName="/ppt/media/image207.wmf" ContentType="image/x-wmf"/>
  <Override PartName="/ppt/media/image266.wmf" ContentType="image/x-wmf"/>
  <Override PartName="/ppt/media/image304.wmf" ContentType="image/x-wmf"/>
  <Override PartName="/ppt/media/image261.wmf" ContentType="image/x-wmf"/>
  <Override PartName="/ppt/media/image281.wmf" ContentType="image/x-wmf"/>
  <Override PartName="/ppt/media/image213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03.wmf" ContentType="image/x-wmf"/>
  <Override PartName="/ppt/media/image276.wmf" ContentType="image/x-wmf"/>
  <Override PartName="/ppt/media/image208.wmf" ContentType="image/x-wmf"/>
  <Override PartName="/ppt/media/image267.wmf" ContentType="image/x-wmf"/>
  <Override PartName="/ppt/media/image305.wmf" ContentType="image/x-wmf"/>
  <Override PartName="/ppt/media/image112.wmf" ContentType="image/x-wmf"/>
  <Override PartName="/ppt/media/image180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84.wmf" ContentType="image/x-wmf"/>
  <Override PartName="/ppt/media/image272.wmf" ContentType="image/x-wmf"/>
  <Override PartName="/ppt/media/image204.wmf" ContentType="image/x-wmf"/>
  <Override PartName="/ppt/media/image171.wmf" ContentType="image/x-wmf"/>
  <Override PartName="/ppt/media/image299.wmf" ContentType="image/x-wmf"/>
  <Override PartName="/ppt/media/image271.wmf" ContentType="image/x-wmf"/>
  <Override PartName="/ppt/media/image203.wmf" ContentType="image/x-wmf"/>
  <Override PartName="/ppt/media/image262.wmf" ContentType="image/x-wmf"/>
  <Override PartName="/ppt/media/image300.wmf" ContentType="image/x-wmf"/>
  <Override PartName="/ppt/media/image170.wmf" ContentType="image/x-wmf"/>
  <Override PartName="/ppt/media/image298.wmf" ContentType="image/x-wmf"/>
  <Override PartName="/ppt/media/image291.wmf" ContentType="image/x-wmf"/>
  <Override PartName="/ppt/media/image69.wmf" ContentType="image/x-wmf"/>
  <Override PartName="/ppt/media/image290.wmf" ContentType="image/x-wmf"/>
  <Override PartName="/ppt/media/image303.wmf" ContentType="image/x-wmf"/>
  <Override PartName="/ppt/media/image265.wmf" ContentType="image/x-wmf"/>
  <Override PartName="/ppt/media/image301.wmf" ContentType="image/x-wmf"/>
  <Override PartName="/ppt/media/image263.wmf" ContentType="image/x-wmf"/>
  <Override PartName="/ppt/media/image194.wmf" ContentType="image/x-wmf"/>
  <Override PartName="/ppt/media/image126.wmf" ContentType="image/x-wmf"/>
  <Override PartName="/ppt/media/image193.wmf" ContentType="image/x-wmf"/>
  <Override PartName="/ppt/media/image125.wmf" ContentType="image/x-wmf"/>
  <Override PartName="/ppt/media/image294.wmf" ContentType="image/x-wmf"/>
  <Override PartName="/ppt/media/image124.wmf" ContentType="image/x-wmf"/>
  <Override PartName="/ppt/media/image192.wmf" ContentType="image/x-wmf"/>
  <Override PartName="/ppt/media/image297.wmf" ContentType="image/x-wmf"/>
  <Override PartName="/ppt/media/image283.wmf" ContentType="image/x-wmf"/>
  <Override PartName="/ppt/media/image113.wmf" ContentType="image/x-wmf"/>
  <Override PartName="/ppt/media/image181.wmf" ContentType="image/x-wmf"/>
  <Override PartName="/ppt/media/image293.wmf" ContentType="image/x-wmf"/>
  <Override PartName="/ppt/media/image123.wmf" ContentType="image/x-wmf"/>
  <Override PartName="/ppt/media/image191.wmf" ContentType="image/x-wmf"/>
  <Override PartName="/ppt/media/image296.wmf" ContentType="image/x-wmf"/>
  <Override PartName="/ppt/media/image282.wmf" ContentType="image/x-wmf"/>
  <Override PartName="/ppt/media/image214.wmf" ContentType="image/x-wmf"/>
  <Override PartName="/ppt/media/image292.wmf" ContentType="image/x-wmf"/>
  <Override PartName="/ppt/media/image122.wmf" ContentType="image/x-wmf"/>
  <Override PartName="/ppt/media/image190.wmf" ContentType="image/x-wmf"/>
  <Override PartName="/ppt/media/image29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20.wmf" ContentType="image/x-wmf"/>
  <Override PartName="/ppt/media/image287.wmf" ContentType="image/x-wmf"/>
  <Override PartName="/ppt/media/image273.wmf" ContentType="image/x-wmf"/>
  <Override PartName="/ppt/media/image205.wmf" ContentType="image/x-wmf"/>
  <Override PartName="/ppt/media/image264.wmf" ContentType="image/x-wmf"/>
  <Override PartName="/ppt/media/image302.wmf" ContentType="image/x-wmf"/>
  <Override PartName="/ppt/media/image286.wmf" ContentType="image/x-wmf"/>
  <Override PartName="/ppt/media/image285.wmf" ContentType="image/x-wmf"/>
  <Override PartName="/ppt/media/image173.wmf" ContentType="image/x-wmf"/>
  <Override PartName="/ppt/media/image277.wmf" ContentType="image/x-wmf"/>
  <Override PartName="/ppt/media/image20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3.jpeg" ContentType="image/jpeg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279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55.wmf" ContentType="image/x-wmf"/>
  <Override PartName="/ppt/media/image288.wmf" ContentType="image/x-wmf"/>
  <Override PartName="/ppt/media/image160.wmf" ContentType="image/x-wmf"/>
  <Override PartName="/ppt/media/image289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2.jpeg" ContentType="image/jpeg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8585280"/>
            <a:ext cx="447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0" y="876132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4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87757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1"/>
          </p:nvPr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9335428-F1B8-4521-9250-5F5F92F270B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868320" y="244440"/>
            <a:ext cx="5307120" cy="397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03200" y="4365360"/>
            <a:ext cx="6099120" cy="424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5906880" y="8656560"/>
            <a:ext cx="811080" cy="287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530E4ED-C72D-4102-AC55-FD6CFA1E735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body"/>
          </p:nvPr>
        </p:nvSpPr>
        <p:spPr>
          <a:xfrm>
            <a:off x="907920" y="4381560"/>
            <a:ext cx="5143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ldImg"/>
          </p:nvPr>
        </p:nvSpPr>
        <p:spPr>
          <a:xfrm>
            <a:off x="1174680" y="692280"/>
            <a:ext cx="4611600" cy="3457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102240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572240" y="1069920"/>
            <a:ext cx="828720" cy="14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D4CFD11-5A68-4FB8-82DA-03744124C43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F849B91-AEE3-436F-83A6-F454455558A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D5C4682-0C27-4B0A-AB7F-FBBD2650E2E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A754506-C9CE-4CEB-A531-367F21203AF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Session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image" Target="../media/image172.wmf"/><Relationship Id="rId10" Type="http://schemas.openxmlformats.org/officeDocument/2006/relationships/image" Target="../media/image173.wmf"/><Relationship Id="rId11" Type="http://schemas.openxmlformats.org/officeDocument/2006/relationships/image" Target="../media/image174.wmf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6.wmf"/><Relationship Id="rId2" Type="http://schemas.openxmlformats.org/officeDocument/2006/relationships/image" Target="../media/image177.wmf"/><Relationship Id="rId3" Type="http://schemas.openxmlformats.org/officeDocument/2006/relationships/image" Target="../media/image178.wmf"/><Relationship Id="rId4" Type="http://schemas.openxmlformats.org/officeDocument/2006/relationships/image" Target="../media/image179.wmf"/><Relationship Id="rId5" Type="http://schemas.openxmlformats.org/officeDocument/2006/relationships/image" Target="../media/image180.wmf"/><Relationship Id="rId6" Type="http://schemas.openxmlformats.org/officeDocument/2006/relationships/image" Target="../media/image181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2.wmf"/><Relationship Id="rId2" Type="http://schemas.openxmlformats.org/officeDocument/2006/relationships/image" Target="../media/image183.wmf"/><Relationship Id="rId3" Type="http://schemas.openxmlformats.org/officeDocument/2006/relationships/image" Target="../media/image184.wm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image" Target="../media/image187.wmf"/><Relationship Id="rId7" Type="http://schemas.openxmlformats.org/officeDocument/2006/relationships/image" Target="../media/image188.wmf"/><Relationship Id="rId8" Type="http://schemas.openxmlformats.org/officeDocument/2006/relationships/image" Target="../media/image189.wmf"/><Relationship Id="rId9" Type="http://schemas.openxmlformats.org/officeDocument/2006/relationships/image" Target="../media/image190.wmf"/><Relationship Id="rId10" Type="http://schemas.openxmlformats.org/officeDocument/2006/relationships/image" Target="../media/image191.wmf"/><Relationship Id="rId11" Type="http://schemas.openxmlformats.org/officeDocument/2006/relationships/image" Target="../media/image192.wmf"/><Relationship Id="rId12" Type="http://schemas.openxmlformats.org/officeDocument/2006/relationships/image" Target="../media/image193.wmf"/><Relationship Id="rId13" Type="http://schemas.openxmlformats.org/officeDocument/2006/relationships/image" Target="../media/image194.wmf"/><Relationship Id="rId14" Type="http://schemas.openxmlformats.org/officeDocument/2006/relationships/image" Target="../media/image195.wmf"/><Relationship Id="rId15" Type="http://schemas.openxmlformats.org/officeDocument/2006/relationships/image" Target="../media/image196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7.wmf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image" Target="../media/image204.wmf"/><Relationship Id="rId9" Type="http://schemas.openxmlformats.org/officeDocument/2006/relationships/image" Target="../media/image205.wmf"/><Relationship Id="rId10" Type="http://schemas.openxmlformats.org/officeDocument/2006/relationships/image" Target="../media/image206.wmf"/><Relationship Id="rId11" Type="http://schemas.openxmlformats.org/officeDocument/2006/relationships/image" Target="../media/image207.wmf"/><Relationship Id="rId12" Type="http://schemas.openxmlformats.org/officeDocument/2006/relationships/image" Target="../media/image208.wmf"/><Relationship Id="rId13" Type="http://schemas.openxmlformats.org/officeDocument/2006/relationships/image" Target="../media/image209.wmf"/><Relationship Id="rId14" Type="http://schemas.openxmlformats.org/officeDocument/2006/relationships/image" Target="../media/image210.wmf"/><Relationship Id="rId15" Type="http://schemas.openxmlformats.org/officeDocument/2006/relationships/image" Target="../media/image211.wmf"/><Relationship Id="rId16" Type="http://schemas.openxmlformats.org/officeDocument/2006/relationships/image" Target="../media/image212.wmf"/><Relationship Id="rId17" Type="http://schemas.openxmlformats.org/officeDocument/2006/relationships/image" Target="../media/image213.wmf"/><Relationship Id="rId18" Type="http://schemas.openxmlformats.org/officeDocument/2006/relationships/image" Target="../media/image214.wmf"/><Relationship Id="rId19" Type="http://schemas.openxmlformats.org/officeDocument/2006/relationships/image" Target="../media/image215.wmf"/><Relationship Id="rId20" Type="http://schemas.openxmlformats.org/officeDocument/2006/relationships/image" Target="../media/image216.wmf"/><Relationship Id="rId21" Type="http://schemas.openxmlformats.org/officeDocument/2006/relationships/image" Target="../media/image217.wmf"/><Relationship Id="rId22" Type="http://schemas.openxmlformats.org/officeDocument/2006/relationships/image" Target="../media/image218.wmf"/><Relationship Id="rId2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9.wmf"/><Relationship Id="rId2" Type="http://schemas.openxmlformats.org/officeDocument/2006/relationships/image" Target="../media/image220.wmf"/><Relationship Id="rId3" Type="http://schemas.openxmlformats.org/officeDocument/2006/relationships/image" Target="../media/image221.wmf"/><Relationship Id="rId4" Type="http://schemas.openxmlformats.org/officeDocument/2006/relationships/image" Target="../media/image222.wmf"/><Relationship Id="rId5" Type="http://schemas.openxmlformats.org/officeDocument/2006/relationships/image" Target="../media/image223.wmf"/><Relationship Id="rId6" Type="http://schemas.openxmlformats.org/officeDocument/2006/relationships/image" Target="../media/image224.wmf"/><Relationship Id="rId7" Type="http://schemas.openxmlformats.org/officeDocument/2006/relationships/image" Target="../media/image225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6.wmf"/><Relationship Id="rId2" Type="http://schemas.openxmlformats.org/officeDocument/2006/relationships/image" Target="../media/image227.wmf"/><Relationship Id="rId3" Type="http://schemas.openxmlformats.org/officeDocument/2006/relationships/image" Target="../media/image228.wmf"/><Relationship Id="rId4" Type="http://schemas.openxmlformats.org/officeDocument/2006/relationships/image" Target="../media/image229.wmf"/><Relationship Id="rId5" Type="http://schemas.openxmlformats.org/officeDocument/2006/relationships/image" Target="../media/image230.wmf"/><Relationship Id="rId6" Type="http://schemas.openxmlformats.org/officeDocument/2006/relationships/image" Target="../media/image231.wmf"/><Relationship Id="rId7" Type="http://schemas.openxmlformats.org/officeDocument/2006/relationships/image" Target="../media/image232.wmf"/><Relationship Id="rId8" Type="http://schemas.openxmlformats.org/officeDocument/2006/relationships/image" Target="../media/image233.wmf"/><Relationship Id="rId9" Type="http://schemas.openxmlformats.org/officeDocument/2006/relationships/image" Target="../media/image234.wmf"/><Relationship Id="rId10" Type="http://schemas.openxmlformats.org/officeDocument/2006/relationships/image" Target="../media/image235.wmf"/><Relationship Id="rId11" Type="http://schemas.openxmlformats.org/officeDocument/2006/relationships/image" Target="../media/image236.wmf"/><Relationship Id="rId12" Type="http://schemas.openxmlformats.org/officeDocument/2006/relationships/image" Target="../media/image237.wmf"/><Relationship Id="rId13" Type="http://schemas.openxmlformats.org/officeDocument/2006/relationships/image" Target="../media/image238.wmf"/><Relationship Id="rId14" Type="http://schemas.openxmlformats.org/officeDocument/2006/relationships/image" Target="../media/image239.wmf"/><Relationship Id="rId15" Type="http://schemas.openxmlformats.org/officeDocument/2006/relationships/image" Target="../media/image240.wmf"/><Relationship Id="rId16" Type="http://schemas.openxmlformats.org/officeDocument/2006/relationships/image" Target="../media/image241.wmf"/><Relationship Id="rId17" Type="http://schemas.openxmlformats.org/officeDocument/2006/relationships/image" Target="../media/image242.wmf"/><Relationship Id="rId18" Type="http://schemas.openxmlformats.org/officeDocument/2006/relationships/image" Target="../media/image243.wmf"/><Relationship Id="rId1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4.wmf"/><Relationship Id="rId2" Type="http://schemas.openxmlformats.org/officeDocument/2006/relationships/image" Target="../media/image245.wmf"/><Relationship Id="rId3" Type="http://schemas.openxmlformats.org/officeDocument/2006/relationships/image" Target="../media/image246.wmf"/><Relationship Id="rId4" Type="http://schemas.openxmlformats.org/officeDocument/2006/relationships/image" Target="../media/image247.wmf"/><Relationship Id="rId5" Type="http://schemas.openxmlformats.org/officeDocument/2006/relationships/image" Target="../media/image248.wmf"/><Relationship Id="rId6" Type="http://schemas.openxmlformats.org/officeDocument/2006/relationships/image" Target="../media/image249.wmf"/><Relationship Id="rId7" Type="http://schemas.openxmlformats.org/officeDocument/2006/relationships/image" Target="../media/image250.wmf"/><Relationship Id="rId8" Type="http://schemas.openxmlformats.org/officeDocument/2006/relationships/image" Target="../media/image251.wmf"/><Relationship Id="rId9" Type="http://schemas.openxmlformats.org/officeDocument/2006/relationships/image" Target="../media/image252.wmf"/><Relationship Id="rId10" Type="http://schemas.openxmlformats.org/officeDocument/2006/relationships/image" Target="../media/image253.wmf"/><Relationship Id="rId11" Type="http://schemas.openxmlformats.org/officeDocument/2006/relationships/image" Target="../media/image254.wmf"/><Relationship Id="rId12" Type="http://schemas.openxmlformats.org/officeDocument/2006/relationships/image" Target="../media/image255.wmf"/><Relationship Id="rId13" Type="http://schemas.openxmlformats.org/officeDocument/2006/relationships/image" Target="../media/image256.wmf"/><Relationship Id="rId14" Type="http://schemas.openxmlformats.org/officeDocument/2006/relationships/image" Target="../media/image257.wmf"/><Relationship Id="rId15" Type="http://schemas.openxmlformats.org/officeDocument/2006/relationships/image" Target="../media/image258.wmf"/><Relationship Id="rId16" Type="http://schemas.openxmlformats.org/officeDocument/2006/relationships/image" Target="../media/image259.wmf"/><Relationship Id="rId17" Type="http://schemas.openxmlformats.org/officeDocument/2006/relationships/image" Target="../media/image260.wmf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1.wmf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image" Target="../media/image283.wmf"/><Relationship Id="rId24" Type="http://schemas.openxmlformats.org/officeDocument/2006/relationships/image" Target="../media/image284.wmf"/><Relationship Id="rId25" Type="http://schemas.openxmlformats.org/officeDocument/2006/relationships/image" Target="../media/image285.wmf"/><Relationship Id="rId2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6.wmf"/><Relationship Id="rId2" Type="http://schemas.openxmlformats.org/officeDocument/2006/relationships/image" Target="../media/image287.wmf"/><Relationship Id="rId3" Type="http://schemas.openxmlformats.org/officeDocument/2006/relationships/image" Target="../media/image288.wmf"/><Relationship Id="rId4" Type="http://schemas.openxmlformats.org/officeDocument/2006/relationships/image" Target="../media/image289.wmf"/><Relationship Id="rId5" Type="http://schemas.openxmlformats.org/officeDocument/2006/relationships/image" Target="../media/image290.wmf"/><Relationship Id="rId6" Type="http://schemas.openxmlformats.org/officeDocument/2006/relationships/image" Target="../media/image291.wmf"/><Relationship Id="rId7" Type="http://schemas.openxmlformats.org/officeDocument/2006/relationships/image" Target="../media/image292.wmf"/><Relationship Id="rId8" Type="http://schemas.openxmlformats.org/officeDocument/2006/relationships/image" Target="../media/image293.wmf"/><Relationship Id="rId9" Type="http://schemas.openxmlformats.org/officeDocument/2006/relationships/image" Target="../media/image294.wmf"/><Relationship Id="rId10" Type="http://schemas.openxmlformats.org/officeDocument/2006/relationships/image" Target="../media/image295.wmf"/><Relationship Id="rId11" Type="http://schemas.openxmlformats.org/officeDocument/2006/relationships/image" Target="../media/image296.wmf"/><Relationship Id="rId12" Type="http://schemas.openxmlformats.org/officeDocument/2006/relationships/image" Target="../media/image297.wmf"/><Relationship Id="rId13" Type="http://schemas.openxmlformats.org/officeDocument/2006/relationships/image" Target="../media/image298.wmf"/><Relationship Id="rId14" Type="http://schemas.openxmlformats.org/officeDocument/2006/relationships/image" Target="../media/image299.wmf"/><Relationship Id="rId15" Type="http://schemas.openxmlformats.org/officeDocument/2006/relationships/image" Target="../media/image300.wmf"/><Relationship Id="rId16" Type="http://schemas.openxmlformats.org/officeDocument/2006/relationships/image" Target="../media/image301.wmf"/><Relationship Id="rId17" Type="http://schemas.openxmlformats.org/officeDocument/2006/relationships/image" Target="../media/image302.wmf"/><Relationship Id="rId18" Type="http://schemas.openxmlformats.org/officeDocument/2006/relationships/image" Target="../media/image303.wmf"/><Relationship Id="rId19" Type="http://schemas.openxmlformats.org/officeDocument/2006/relationships/image" Target="../media/image304.wmf"/><Relationship Id="rId20" Type="http://schemas.openxmlformats.org/officeDocument/2006/relationships/image" Target="../media/image305.wmf"/><Relationship Id="rId21" Type="http://schemas.openxmlformats.org/officeDocument/2006/relationships/image" Target="../media/image306.wmf"/><Relationship Id="rId2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9.wmf"/><Relationship Id="rId17" Type="http://schemas.openxmlformats.org/officeDocument/2006/relationships/image" Target="../media/image20.wmf"/><Relationship Id="rId18" Type="http://schemas.openxmlformats.org/officeDocument/2006/relationships/image" Target="../media/image21.wmf"/><Relationship Id="rId19" Type="http://schemas.openxmlformats.org/officeDocument/2006/relationships/image" Target="../media/image22.wm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25.wmf"/><Relationship Id="rId23" Type="http://schemas.openxmlformats.org/officeDocument/2006/relationships/image" Target="../media/image26.wmf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29.wmf"/><Relationship Id="rId27" Type="http://schemas.openxmlformats.org/officeDocument/2006/relationships/image" Target="../media/image30.wmf"/><Relationship Id="rId28" Type="http://schemas.openxmlformats.org/officeDocument/2006/relationships/image" Target="../media/image31.wmf"/><Relationship Id="rId2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image" Target="../media/image47.wmf"/><Relationship Id="rId17" Type="http://schemas.openxmlformats.org/officeDocument/2006/relationships/image" Target="../media/image48.wmf"/><Relationship Id="rId18" Type="http://schemas.openxmlformats.org/officeDocument/2006/relationships/image" Target="../media/image49.wmf"/><Relationship Id="rId19" Type="http://schemas.openxmlformats.org/officeDocument/2006/relationships/image" Target="../media/image50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54.wmf"/><Relationship Id="rId24" Type="http://schemas.openxmlformats.org/officeDocument/2006/relationships/image" Target="../media/image55.wmf"/><Relationship Id="rId25" Type="http://schemas.openxmlformats.org/officeDocument/2006/relationships/image" Target="../media/image56.wmf"/><Relationship Id="rId26" Type="http://schemas.openxmlformats.org/officeDocument/2006/relationships/image" Target="../media/image57.wmf"/><Relationship Id="rId2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image" Target="../media/image66.wmf"/><Relationship Id="rId10" Type="http://schemas.openxmlformats.org/officeDocument/2006/relationships/image" Target="../media/image67.wmf"/><Relationship Id="rId11" Type="http://schemas.openxmlformats.org/officeDocument/2006/relationships/image" Target="../media/image68.wmf"/><Relationship Id="rId12" Type="http://schemas.openxmlformats.org/officeDocument/2006/relationships/image" Target="../media/image69.wmf"/><Relationship Id="rId13" Type="http://schemas.openxmlformats.org/officeDocument/2006/relationships/image" Target="../media/image70.wmf"/><Relationship Id="rId14" Type="http://schemas.openxmlformats.org/officeDocument/2006/relationships/image" Target="../media/image71.wmf"/><Relationship Id="rId15" Type="http://schemas.openxmlformats.org/officeDocument/2006/relationships/image" Target="../media/image72.wmf"/><Relationship Id="rId16" Type="http://schemas.openxmlformats.org/officeDocument/2006/relationships/image" Target="../media/image73.wmf"/><Relationship Id="rId17" Type="http://schemas.openxmlformats.org/officeDocument/2006/relationships/image" Target="../media/image74.wmf"/><Relationship Id="rId18" Type="http://schemas.openxmlformats.org/officeDocument/2006/relationships/image" Target="../media/image75.wmf"/><Relationship Id="rId19" Type="http://schemas.openxmlformats.org/officeDocument/2006/relationships/image" Target="../media/image76.wmf"/><Relationship Id="rId20" Type="http://schemas.openxmlformats.org/officeDocument/2006/relationships/image" Target="../media/image77.wmf"/><Relationship Id="rId21" Type="http://schemas.openxmlformats.org/officeDocument/2006/relationships/image" Target="../media/image78.wmf"/><Relationship Id="rId22" Type="http://schemas.openxmlformats.org/officeDocument/2006/relationships/image" Target="../media/image79.wmf"/><Relationship Id="rId23" Type="http://schemas.openxmlformats.org/officeDocument/2006/relationships/image" Target="../media/image80.wmf"/><Relationship Id="rId24" Type="http://schemas.openxmlformats.org/officeDocument/2006/relationships/image" Target="../media/image81.wmf"/><Relationship Id="rId2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97.wmf"/><Relationship Id="rId17" Type="http://schemas.openxmlformats.org/officeDocument/2006/relationships/image" Target="../media/image98.wmf"/><Relationship Id="rId18" Type="http://schemas.openxmlformats.org/officeDocument/2006/relationships/image" Target="../media/image99.wmf"/><Relationship Id="rId19" Type="http://schemas.openxmlformats.org/officeDocument/2006/relationships/image" Target="../media/image100.wmf"/><Relationship Id="rId2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image" Target="../media/image109.wmf"/><Relationship Id="rId10" Type="http://schemas.openxmlformats.org/officeDocument/2006/relationships/image" Target="../media/image110.wmf"/><Relationship Id="rId11" Type="http://schemas.openxmlformats.org/officeDocument/2006/relationships/image" Target="../media/image111.wmf"/><Relationship Id="rId12" Type="http://schemas.openxmlformats.org/officeDocument/2006/relationships/image" Target="../media/image112.wmf"/><Relationship Id="rId13" Type="http://schemas.openxmlformats.org/officeDocument/2006/relationships/image" Target="../media/image113.wmf"/><Relationship Id="rId14" Type="http://schemas.openxmlformats.org/officeDocument/2006/relationships/image" Target="../media/image114.wmf"/><Relationship Id="rId15" Type="http://schemas.openxmlformats.org/officeDocument/2006/relationships/image" Target="../media/image115.wmf"/><Relationship Id="rId16" Type="http://schemas.openxmlformats.org/officeDocument/2006/relationships/image" Target="../media/image116.wmf"/><Relationship Id="rId17" Type="http://schemas.openxmlformats.org/officeDocument/2006/relationships/image" Target="../media/image117.wmf"/><Relationship Id="rId18" Type="http://schemas.openxmlformats.org/officeDocument/2006/relationships/image" Target="../media/image118.wmf"/><Relationship Id="rId19" Type="http://schemas.openxmlformats.org/officeDocument/2006/relationships/image" Target="../media/image119.wmf"/><Relationship Id="rId20" Type="http://schemas.openxmlformats.org/officeDocument/2006/relationships/image" Target="../media/image120.wmf"/><Relationship Id="rId21" Type="http://schemas.openxmlformats.org/officeDocument/2006/relationships/image" Target="../media/image121.wmf"/><Relationship Id="rId22" Type="http://schemas.openxmlformats.org/officeDocument/2006/relationships/image" Target="../media/image122.wmf"/><Relationship Id="rId2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image" Target="../media/image136.wmf"/><Relationship Id="rId1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14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15.wmf"/><Relationship Id="rId13" Type="http://schemas.openxmlformats.org/officeDocument/2006/relationships/image" Target="../media/image147.wmf"/><Relationship Id="rId14" Type="http://schemas.openxmlformats.org/officeDocument/2006/relationships/image" Target="../media/image148.wmf"/><Relationship Id="rId15" Type="http://schemas.openxmlformats.org/officeDocument/2006/relationships/image" Target="../media/image136.wmf"/><Relationship Id="rId16" Type="http://schemas.openxmlformats.org/officeDocument/2006/relationships/image" Target="../media/image149.wmf"/><Relationship Id="rId1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image" Target="../media/image151.wmf"/><Relationship Id="rId3" Type="http://schemas.openxmlformats.org/officeDocument/2006/relationships/image" Target="../media/image152.wmf"/><Relationship Id="rId4" Type="http://schemas.openxmlformats.org/officeDocument/2006/relationships/image" Target="../media/image153.wmf"/><Relationship Id="rId5" Type="http://schemas.openxmlformats.org/officeDocument/2006/relationships/image" Target="../media/image154.wmf"/><Relationship Id="rId6" Type="http://schemas.openxmlformats.org/officeDocument/2006/relationships/image" Target="../media/image155.wmf"/><Relationship Id="rId7" Type="http://schemas.openxmlformats.org/officeDocument/2006/relationships/image" Target="../media/image156.wmf"/><Relationship Id="rId8" Type="http://schemas.openxmlformats.org/officeDocument/2006/relationships/image" Target="../media/image157.wmf"/><Relationship Id="rId9" Type="http://schemas.openxmlformats.org/officeDocument/2006/relationships/image" Target="../media/image158.wmf"/><Relationship Id="rId10" Type="http://schemas.openxmlformats.org/officeDocument/2006/relationships/image" Target="../media/image159.wmf"/><Relationship Id="rId11" Type="http://schemas.openxmlformats.org/officeDocument/2006/relationships/image" Target="../media/image160.wmf"/><Relationship Id="rId12" Type="http://schemas.openxmlformats.org/officeDocument/2006/relationships/image" Target="../media/image161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 LIBR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AS OF MAY 26,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, Optical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04920" y="2529000"/>
            <a:ext cx="1752480" cy="447480"/>
            <a:chOff x="304920" y="2529000"/>
            <a:chExt cx="1752480" cy="447480"/>
          </a:xfrm>
        </p:grpSpPr>
        <p:sp>
          <p:nvSpPr>
            <p:cNvPr id="422" name=""/>
            <p:cNvSpPr/>
            <p:nvPr/>
          </p:nvSpPr>
          <p:spPr>
            <a:xfrm>
              <a:off x="304920" y="2757240"/>
              <a:ext cx="1752480" cy="0"/>
            </a:xfrm>
            <a:prstGeom prst="line">
              <a:avLst/>
            </a:prstGeom>
            <a:ln w="381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120" y="2529000"/>
              <a:ext cx="819000" cy="447480"/>
              <a:chOff x="762120" y="2529000"/>
              <a:chExt cx="819000" cy="44748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120" y="2529000"/>
                <a:ext cx="81900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028880" y="2620800"/>
                <a:ext cx="268200" cy="267480"/>
                <a:chOff x="1028880" y="2620800"/>
                <a:chExt cx="268200" cy="2674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035000" y="2626920"/>
                  <a:ext cx="262080" cy="26136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28880" y="262080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304920" y="1828800"/>
            <a:ext cx="1752480" cy="447480"/>
            <a:chOff x="304920" y="1828800"/>
            <a:chExt cx="1752480" cy="447480"/>
          </a:xfrm>
        </p:grpSpPr>
        <p:sp>
          <p:nvSpPr>
            <p:cNvPr id="429" name=""/>
            <p:cNvSpPr/>
            <p:nvPr/>
          </p:nvSpPr>
          <p:spPr>
            <a:xfrm>
              <a:off x="304920" y="2049480"/>
              <a:ext cx="1752480" cy="0"/>
            </a:xfrm>
            <a:prstGeom prst="line">
              <a:avLst/>
            </a:prstGeom>
            <a:ln w="381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71480" y="1828800"/>
              <a:ext cx="819360" cy="447480"/>
              <a:chOff x="771480" y="1828800"/>
              <a:chExt cx="819360" cy="447480"/>
            </a:xfrm>
          </p:grpSpPr>
          <p:sp>
            <p:nvSpPr>
              <p:cNvPr id="431" name=""/>
              <p:cNvSpPr/>
              <p:nvPr/>
            </p:nvSpPr>
            <p:spPr>
              <a:xfrm>
                <a:off x="771480" y="1828800"/>
                <a:ext cx="81936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925560" y="1874880"/>
                <a:ext cx="268200" cy="268200"/>
                <a:chOff x="925560" y="1874880"/>
                <a:chExt cx="268200" cy="268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32040" y="1881000"/>
                  <a:ext cx="26172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25560" y="1874880"/>
                  <a:ext cx="26208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114560" y="1987560"/>
                <a:ext cx="268200" cy="268200"/>
                <a:chOff x="1114560" y="1987560"/>
                <a:chExt cx="268200" cy="2682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120680" y="1993680"/>
                  <a:ext cx="26208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114560" y="198756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8" name=""/>
          <p:cNvSpPr/>
          <p:nvPr/>
        </p:nvSpPr>
        <p:spPr>
          <a:xfrm>
            <a:off x="2057400" y="2606760"/>
            <a:ext cx="29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1895400"/>
            <a:ext cx="29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33433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tro 1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93840" y="3276720"/>
            <a:ext cx="1004760" cy="8823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371600" y="45975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S 15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990720" cy="87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252440" cy="742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Secur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257800" y="5257800"/>
            <a:ext cx="1501920" cy="13557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6400800" y="1371600"/>
            <a:ext cx="938160" cy="14875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095880" y="3048120"/>
            <a:ext cx="1498680" cy="13525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72000" y="3048120"/>
            <a:ext cx="1498680" cy="13525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304920" y="3505320"/>
            <a:ext cx="1407960" cy="13906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533520" y="2590920"/>
            <a:ext cx="1252440" cy="742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533520" y="1523880"/>
            <a:ext cx="1644480" cy="7128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1600200" y="3505320"/>
            <a:ext cx="1407960" cy="1390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978200" y="1523880"/>
            <a:ext cx="163656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6248520" y="4876920"/>
            <a:ext cx="1206360" cy="979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651120" y="1434960"/>
            <a:ext cx="1606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Switch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71800" y="2514600"/>
            <a:ext cx="160668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Router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65320" y="3657600"/>
            <a:ext cx="16066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Catalyst Switch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1523880"/>
            <a:ext cx="160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37320" y="3048120"/>
            <a:ext cx="1606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isco and Generic Color Sche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5867280"/>
            <a:ext cx="160668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cure Endpoints</a:t>
            </a:r>
            <a:br>
              <a:rPr sz="13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C and Lapt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380880" y="5105520"/>
            <a:ext cx="1052640" cy="1455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371600" y="5257800"/>
            <a:ext cx="1606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SM-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706840" y="1800360"/>
            <a:ext cx="1455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6840" y="3048120"/>
            <a:ext cx="1455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06840" y="4386240"/>
            <a:ext cx="1455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Front End Process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43640" y="4386240"/>
            <a:ext cx="14554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448160" y="4386240"/>
            <a:ext cx="1014480" cy="9129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543640" y="1720800"/>
            <a:ext cx="1887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441680" y="1800360"/>
            <a:ext cx="1020960" cy="4284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543640" y="304812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27440" y="3048120"/>
            <a:ext cx="835200" cy="1199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IB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2033640" y="4419720"/>
            <a:ext cx="662040" cy="6429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905120" y="1752480"/>
            <a:ext cx="814320" cy="1024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6"/>
          <a:stretch/>
        </p:blipFill>
        <p:spPr>
          <a:xfrm>
            <a:off x="1371600" y="2895480"/>
            <a:ext cx="132408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990360" cy="8618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601640" y="137160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0120" y="1371600"/>
            <a:ext cx="1022400" cy="492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601640" y="213372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885960" y="2133720"/>
            <a:ext cx="736560" cy="4921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601640" y="280512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01640" y="384192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4600" y="4194000"/>
            <a:ext cx="11984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4600" y="137160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4600" y="229860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2819520" y="229860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954600" y="3157560"/>
            <a:ext cx="1199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2819520" y="3157560"/>
            <a:ext cx="1181160" cy="712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601640" y="488484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53040" y="13716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53040" y="22986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4962600" y="1371600"/>
            <a:ext cx="1093680" cy="7412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7"/>
          <a:stretch/>
        </p:blipFill>
        <p:spPr>
          <a:xfrm>
            <a:off x="5048280" y="2298600"/>
            <a:ext cx="1008000" cy="6638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496800" y="2805120"/>
            <a:ext cx="1022400" cy="803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488880" y="3776760"/>
            <a:ext cx="1030320" cy="8031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0"/>
          <a:stretch/>
        </p:blipFill>
        <p:spPr>
          <a:xfrm>
            <a:off x="555480" y="4754520"/>
            <a:ext cx="963720" cy="782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1"/>
          <a:stretch/>
        </p:blipFill>
        <p:spPr>
          <a:xfrm>
            <a:off x="658800" y="5008680"/>
            <a:ext cx="963720" cy="78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2"/>
          <a:stretch/>
        </p:blipFill>
        <p:spPr>
          <a:xfrm>
            <a:off x="2819520" y="1371600"/>
            <a:ext cx="1181160" cy="7142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3"/>
          <a:stretch/>
        </p:blipFill>
        <p:spPr>
          <a:xfrm>
            <a:off x="2819520" y="419400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600200" y="59436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4"/>
          <a:stretch/>
        </p:blipFill>
        <p:spPr>
          <a:xfrm>
            <a:off x="525600" y="5943600"/>
            <a:ext cx="1077840" cy="592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053040" y="38862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W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5"/>
          <a:stretch/>
        </p:blipFill>
        <p:spPr>
          <a:xfrm>
            <a:off x="5105520" y="4876920"/>
            <a:ext cx="3047760" cy="12859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6019920" y="5257800"/>
            <a:ext cx="119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PT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227240" y="1517760"/>
            <a:ext cx="11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27240" y="22860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27240" y="32004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27240" y="411480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51520" y="1720800"/>
            <a:ext cx="123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5195880" y="1720800"/>
            <a:ext cx="809640" cy="792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951520" y="2746440"/>
            <a:ext cx="92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32240" y="2746440"/>
            <a:ext cx="773280" cy="784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951520" y="374184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uper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989600" y="3741840"/>
            <a:ext cx="1015920" cy="8827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951520" y="4788000"/>
            <a:ext cx="117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5315040" y="4788000"/>
            <a:ext cx="690480" cy="7063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995640" y="5029200"/>
            <a:ext cx="957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2570040" y="5029200"/>
            <a:ext cx="1479600" cy="8985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7923240" y="172080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78200" y="151776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78200" y="3200400"/>
            <a:ext cx="89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7240" y="5029200"/>
            <a:ext cx="1353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78200" y="22860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78200" y="41148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2914560" y="2286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771640" y="1517760"/>
            <a:ext cx="1057320" cy="6541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3341520" y="3200400"/>
            <a:ext cx="487440" cy="7858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374760" y="5029200"/>
            <a:ext cx="822240" cy="7192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2914560" y="4114800"/>
            <a:ext cx="914400" cy="7300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7162920" y="4419720"/>
            <a:ext cx="799920" cy="7398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923240" y="4419720"/>
            <a:ext cx="101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2"/>
          <a:stretch/>
        </p:blipFill>
        <p:spPr>
          <a:xfrm>
            <a:off x="7245360" y="1720800"/>
            <a:ext cx="717480" cy="7146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7923240" y="2746440"/>
            <a:ext cx="90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3"/>
          <a:stretch/>
        </p:blipFill>
        <p:spPr>
          <a:xfrm>
            <a:off x="7191360" y="3741840"/>
            <a:ext cx="771480" cy="5572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923240" y="375768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4"/>
          <a:stretch/>
        </p:blipFill>
        <p:spPr>
          <a:xfrm>
            <a:off x="7245360" y="2746440"/>
            <a:ext cx="717480" cy="714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318960" y="2286000"/>
            <a:ext cx="909720" cy="8222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6"/>
          <a:stretch/>
        </p:blipFill>
        <p:spPr>
          <a:xfrm>
            <a:off x="293760" y="3200400"/>
            <a:ext cx="1082520" cy="768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7"/>
          <a:stretch/>
        </p:blipFill>
        <p:spPr>
          <a:xfrm>
            <a:off x="347760" y="4114800"/>
            <a:ext cx="793800" cy="7873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8"/>
          <a:stretch/>
        </p:blipFill>
        <p:spPr>
          <a:xfrm>
            <a:off x="312840" y="1371600"/>
            <a:ext cx="977760" cy="8683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L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9"/>
          <a:stretch/>
        </p:blipFill>
        <p:spPr>
          <a:xfrm>
            <a:off x="6883560" y="5715000"/>
            <a:ext cx="965160" cy="879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831080" y="5791320"/>
            <a:ext cx="1236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lligence Engine 2100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0"/>
          <a:stretch/>
        </p:blipFill>
        <p:spPr>
          <a:xfrm>
            <a:off x="4876920" y="5791320"/>
            <a:ext cx="1334880" cy="676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172200" y="58672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1"/>
          <a:stretch/>
        </p:blipFill>
        <p:spPr>
          <a:xfrm>
            <a:off x="2514600" y="5943600"/>
            <a:ext cx="1219320" cy="7239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2"/>
          <a:stretch/>
        </p:blipFill>
        <p:spPr>
          <a:xfrm>
            <a:off x="380880" y="5864400"/>
            <a:ext cx="1014480" cy="536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33920" y="60199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7920" y="609300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182680" y="17524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ken Rings, with and without Tex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2680" y="3583080"/>
            <a:ext cx="14558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DDI Rings, with and without Text, Vertical and Horizo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655640" y="4657680"/>
            <a:ext cx="1650960" cy="720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1434960" y="37656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1092240" y="35082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1141560" y="4829040"/>
            <a:ext cx="165096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530520" y="273672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Serial 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59280" y="2052720"/>
            <a:ext cx="3602160" cy="172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873600" y="3492360"/>
            <a:ext cx="3600000" cy="171360"/>
            <a:chOff x="3873600" y="3492360"/>
            <a:chExt cx="3600000" cy="171360"/>
          </a:xfrm>
        </p:grpSpPr>
        <p:sp>
          <p:nvSpPr>
            <p:cNvPr id="561" name=""/>
            <p:cNvSpPr/>
            <p:nvPr/>
          </p:nvSpPr>
          <p:spPr>
            <a:xfrm flipV="1">
              <a:off x="5502240" y="3492360"/>
              <a:ext cx="171000" cy="1713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7360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3064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8768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4508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0212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5916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16560" y="3492360"/>
              <a:ext cx="1713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0224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5928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1668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7372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3076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8816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4520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02600" y="3663720"/>
              <a:ext cx="17100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959280" y="23954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873600" y="3835080"/>
            <a:ext cx="3600000" cy="171360"/>
            <a:chOff x="3873600" y="3835080"/>
            <a:chExt cx="3600000" cy="171360"/>
          </a:xfrm>
        </p:grpSpPr>
        <p:sp>
          <p:nvSpPr>
            <p:cNvPr id="579" name=""/>
            <p:cNvSpPr/>
            <p:nvPr/>
          </p:nvSpPr>
          <p:spPr>
            <a:xfrm flipV="1">
              <a:off x="5502240" y="3835080"/>
              <a:ext cx="171000" cy="17100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7360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3064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8768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4508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0212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5916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16560" y="3835440"/>
              <a:ext cx="1713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0224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5928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1668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7372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076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8816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4520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02600" y="4006440"/>
              <a:ext cx="17100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530520" y="4092480"/>
            <a:ext cx="4372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Circuit-Switch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30520" y="5365800"/>
            <a:ext cx="4372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e: Etherne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Use Thicker where There Is Spac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59280" y="5022720"/>
            <a:ext cx="36003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280120"/>
            <a:ext cx="36003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1512720" y="221940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1170000" y="22194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1166760" y="1790640"/>
            <a:ext cx="757440" cy="73656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ed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17440" y="1574640"/>
            <a:ext cx="1933560" cy="10764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131920" y="20430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1920" y="33242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345960" y="3300480"/>
            <a:ext cx="1847880" cy="7556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131920" y="4417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995400" y="4351320"/>
            <a:ext cx="1138320" cy="695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2131920" y="5275440"/>
            <a:ext cx="1541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ffic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>
            <a:off x="301680" y="54072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930240" y="5407200"/>
            <a:ext cx="581040" cy="761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032520" y="1973160"/>
            <a:ext cx="15429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32520" y="3429000"/>
            <a:ext cx="15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, Regular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32520" y="4457880"/>
            <a:ext cx="1542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 (Color and Subdu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32520" y="5486400"/>
            <a:ext cx="154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4238640" y="5103720"/>
            <a:ext cx="17384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3629160" y="1793880"/>
            <a:ext cx="2347560" cy="1125360"/>
            <a:chOff x="3629160" y="1793880"/>
            <a:chExt cx="2347560" cy="1125360"/>
          </a:xfrm>
        </p:grpSpPr>
        <p:pic>
          <p:nvPicPr>
            <p:cNvPr id="618" name="" descr=""/>
            <p:cNvPicPr/>
            <p:nvPr/>
          </p:nvPicPr>
          <p:blipFill>
            <a:blip r:embed="rId7"/>
            <a:stretch/>
          </p:blipFill>
          <p:spPr>
            <a:xfrm>
              <a:off x="362916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8"/>
            <a:stretch/>
          </p:blipFill>
          <p:spPr>
            <a:xfrm>
              <a:off x="444888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9"/>
            <a:stretch/>
          </p:blipFill>
          <p:spPr>
            <a:xfrm>
              <a:off x="5243760" y="1793880"/>
              <a:ext cx="73296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" descr=""/>
          <p:cNvPicPr/>
          <p:nvPr/>
        </p:nvPicPr>
        <p:blipFill>
          <a:blip r:embed="rId10"/>
          <a:stretch/>
        </p:blipFill>
        <p:spPr>
          <a:xfrm>
            <a:off x="1558800" y="540720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11"/>
          <a:stretch/>
        </p:blipFill>
        <p:spPr>
          <a:xfrm>
            <a:off x="7621560" y="1577880"/>
            <a:ext cx="1057320" cy="8352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2"/>
          <a:stretch/>
        </p:blipFill>
        <p:spPr>
          <a:xfrm>
            <a:off x="7621560" y="2289240"/>
            <a:ext cx="1057320" cy="834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3"/>
          <a:stretch/>
        </p:blipFill>
        <p:spPr>
          <a:xfrm>
            <a:off x="7621560" y="3027240"/>
            <a:ext cx="1057320" cy="836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478640" y="3895560"/>
            <a:ext cx="14572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dium Building, Regular, Subdued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4"/>
          <a:stretch/>
        </p:blipFill>
        <p:spPr>
          <a:xfrm>
            <a:off x="3573360" y="4135320"/>
            <a:ext cx="1174680" cy="7732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5"/>
          <a:stretch/>
        </p:blipFill>
        <p:spPr>
          <a:xfrm>
            <a:off x="3565440" y="3133800"/>
            <a:ext cx="1187640" cy="7858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6"/>
          <a:stretch/>
        </p:blipFill>
        <p:spPr>
          <a:xfrm>
            <a:off x="4892760" y="3133800"/>
            <a:ext cx="1187280" cy="7858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7"/>
          <a:stretch/>
        </p:blipFill>
        <p:spPr>
          <a:xfrm>
            <a:off x="4734000" y="4135320"/>
            <a:ext cx="1174680" cy="773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Building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8"/>
          <a:stretch/>
        </p:blipFill>
        <p:spPr>
          <a:xfrm>
            <a:off x="7391520" y="5105520"/>
            <a:ext cx="1014120" cy="1224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8381880" y="525780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542880" y="1473120"/>
            <a:ext cx="785880" cy="2606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336600" y="41688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36840" y="416880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506088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420372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34656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3354480" y="1808280"/>
            <a:ext cx="495360" cy="9172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6"/>
          <a:stretch/>
        </p:blipFill>
        <p:spPr>
          <a:xfrm>
            <a:off x="4211640" y="1808280"/>
            <a:ext cx="493560" cy="9172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7"/>
          <a:stretch/>
        </p:blipFill>
        <p:spPr>
          <a:xfrm>
            <a:off x="4983120" y="1808280"/>
            <a:ext cx="493920" cy="9172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944800" y="280836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44800" y="426564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7160" y="582300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nning Ma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lor and Subdu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14600" y="5823000"/>
            <a:ext cx="20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8"/>
          <a:stretch/>
        </p:blipFill>
        <p:spPr>
          <a:xfrm>
            <a:off x="2266920" y="4921200"/>
            <a:ext cx="720720" cy="8812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824280" y="5823000"/>
            <a:ext cx="146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29680" y="5267160"/>
            <a:ext cx="171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 Femal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42080" y="5267160"/>
            <a:ext cx="176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d User Male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9"/>
          <a:stretch/>
        </p:blipFill>
        <p:spPr>
          <a:xfrm>
            <a:off x="1020600" y="4921200"/>
            <a:ext cx="694080" cy="8730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10"/>
          <a:stretch/>
        </p:blipFill>
        <p:spPr>
          <a:xfrm>
            <a:off x="307800" y="4921200"/>
            <a:ext cx="694080" cy="873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Peop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1"/>
          <a:stretch/>
        </p:blipFill>
        <p:spPr>
          <a:xfrm>
            <a:off x="6248520" y="2743200"/>
            <a:ext cx="852480" cy="12193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12"/>
          <a:stretch/>
        </p:blipFill>
        <p:spPr>
          <a:xfrm>
            <a:off x="1722600" y="1523880"/>
            <a:ext cx="715680" cy="2514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13"/>
          <a:stretch/>
        </p:blipFill>
        <p:spPr>
          <a:xfrm>
            <a:off x="7924680" y="2743200"/>
            <a:ext cx="770040" cy="121932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4"/>
          <a:stretch/>
        </p:blipFill>
        <p:spPr>
          <a:xfrm>
            <a:off x="7924680" y="4114800"/>
            <a:ext cx="771480" cy="12193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5"/>
          <a:stretch/>
        </p:blipFill>
        <p:spPr>
          <a:xfrm>
            <a:off x="4114800" y="4800600"/>
            <a:ext cx="814320" cy="110952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16"/>
          <a:stretch/>
        </p:blipFill>
        <p:spPr>
          <a:xfrm>
            <a:off x="6324480" y="4038480"/>
            <a:ext cx="831960" cy="11588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17"/>
          <a:stretch/>
        </p:blipFill>
        <p:spPr>
          <a:xfrm>
            <a:off x="7012080" y="1295280"/>
            <a:ext cx="1120680" cy="1295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4419720" y="152388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rogynous P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477120" y="5715000"/>
            <a:ext cx="1836720" cy="739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495680" y="5638680"/>
            <a:ext cx="920880" cy="102096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ultimedia/Voice/Pho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722160" y="1295280"/>
            <a:ext cx="1028880" cy="792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31960" y="141912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40384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152280" y="4521240"/>
            <a:ext cx="608040" cy="812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5295960" y="587376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31960" y="2230560"/>
            <a:ext cx="1282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304920" y="2109960"/>
            <a:ext cx="1446120" cy="664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731960" y="34894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6"/>
          <a:stretch/>
        </p:blipFill>
        <p:spPr>
          <a:xfrm>
            <a:off x="760320" y="3481560"/>
            <a:ext cx="990720" cy="6318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7"/>
          <a:stretch/>
        </p:blipFill>
        <p:spPr>
          <a:xfrm>
            <a:off x="387360" y="2795760"/>
            <a:ext cx="1363680" cy="6476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31960" y="2871720"/>
            <a:ext cx="132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365760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8"/>
          <a:stretch/>
        </p:blipFill>
        <p:spPr>
          <a:xfrm>
            <a:off x="3089160" y="3657600"/>
            <a:ext cx="722520" cy="91584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3981600" y="137160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9"/>
          <a:stretch/>
        </p:blipFill>
        <p:spPr>
          <a:xfrm>
            <a:off x="3090960" y="1292400"/>
            <a:ext cx="815760" cy="7221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981600" y="251460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59040" y="2085840"/>
            <a:ext cx="1147320" cy="1498320"/>
            <a:chOff x="2759040" y="2085840"/>
            <a:chExt cx="1147320" cy="1498320"/>
          </a:xfrm>
        </p:grpSpPr>
        <p:pic>
          <p:nvPicPr>
            <p:cNvPr id="681" name="" descr=""/>
            <p:cNvPicPr/>
            <p:nvPr/>
          </p:nvPicPr>
          <p:blipFill>
            <a:blip r:embed="rId10"/>
            <a:stretch/>
          </p:blipFill>
          <p:spPr>
            <a:xfrm>
              <a:off x="2759040" y="2861280"/>
              <a:ext cx="1056600" cy="7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11"/>
            <a:stretch/>
          </p:blipFill>
          <p:spPr>
            <a:xfrm>
              <a:off x="2846880" y="2085840"/>
              <a:ext cx="105948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"/>
          <p:cNvSpPr/>
          <p:nvPr/>
        </p:nvSpPr>
        <p:spPr>
          <a:xfrm>
            <a:off x="5638680" y="4794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24400" y="39481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2"/>
          <a:stretch/>
        </p:blipFill>
        <p:spPr>
          <a:xfrm>
            <a:off x="4997520" y="3886200"/>
            <a:ext cx="677880" cy="89208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13"/>
          <a:stretch/>
        </p:blipFill>
        <p:spPr>
          <a:xfrm>
            <a:off x="5105520" y="4849920"/>
            <a:ext cx="666720" cy="9414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5715000" y="31240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4"/>
          <a:stretch/>
        </p:blipFill>
        <p:spPr>
          <a:xfrm>
            <a:off x="5029200" y="3048120"/>
            <a:ext cx="538200" cy="8395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7543800" y="30463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5"/>
          <a:stretch/>
        </p:blipFill>
        <p:spPr>
          <a:xfrm>
            <a:off x="6705720" y="3046320"/>
            <a:ext cx="846000" cy="8398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981600" y="449568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6"/>
          <a:stretch/>
        </p:blipFill>
        <p:spPr>
          <a:xfrm>
            <a:off x="2892600" y="4575240"/>
            <a:ext cx="1014120" cy="5000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7"/>
          <a:stretch/>
        </p:blipFill>
        <p:spPr>
          <a:xfrm>
            <a:off x="1014480" y="4154400"/>
            <a:ext cx="736560" cy="7858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731960" y="45100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24680" y="388620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ass 4/5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8"/>
          <a:stretch/>
        </p:blipFill>
        <p:spPr>
          <a:xfrm>
            <a:off x="7102440" y="3701880"/>
            <a:ext cx="822240" cy="11145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8153280" y="4952880"/>
            <a:ext cx="990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ot and Holler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05920" y="5700600"/>
            <a:ext cx="990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urr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9"/>
          <a:stretch/>
        </p:blipFill>
        <p:spPr>
          <a:xfrm>
            <a:off x="6934320" y="4921200"/>
            <a:ext cx="976320" cy="71748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0"/>
          <a:stretch/>
        </p:blipFill>
        <p:spPr>
          <a:xfrm>
            <a:off x="5029200" y="1371600"/>
            <a:ext cx="1225440" cy="5317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1"/>
          <a:stretch/>
        </p:blipFill>
        <p:spPr>
          <a:xfrm>
            <a:off x="7391520" y="1371600"/>
            <a:ext cx="771480" cy="838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8153280" y="162864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153280" y="244332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2"/>
          <a:stretch/>
        </p:blipFill>
        <p:spPr>
          <a:xfrm>
            <a:off x="7305840" y="2284560"/>
            <a:ext cx="923760" cy="7426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248520" y="137160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t To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x (ST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48520" y="216540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3"/>
          <a:stretch/>
        </p:blipFill>
        <p:spPr>
          <a:xfrm>
            <a:off x="5334120" y="2057400"/>
            <a:ext cx="858600" cy="84312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505320" y="601992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4"/>
          <a:stretch/>
        </p:blipFill>
        <p:spPr>
          <a:xfrm>
            <a:off x="2743200" y="5257800"/>
            <a:ext cx="1447920" cy="79524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17560" y="548784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25"/>
          <a:stretch/>
        </p:blipFill>
        <p:spPr>
          <a:xfrm>
            <a:off x="228600" y="5181480"/>
            <a:ext cx="1473120" cy="13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380880" y="5638680"/>
            <a:ext cx="1974960" cy="7574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1104840" y="1295280"/>
            <a:ext cx="424080" cy="10051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1096920" y="2330280"/>
            <a:ext cx="750960" cy="9464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933560" y="1295280"/>
            <a:ext cx="1284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, Horizontal and Vertical,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33560" y="2401920"/>
            <a:ext cx="128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33560" y="3352680"/>
            <a:ext cx="128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5"/>
          <a:stretch/>
        </p:blipFill>
        <p:spPr>
          <a:xfrm>
            <a:off x="812880" y="3360600"/>
            <a:ext cx="1035000" cy="47016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933560" y="42670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979560" y="3930480"/>
            <a:ext cx="990360" cy="946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7"/>
          <a:stretch/>
        </p:blipFill>
        <p:spPr>
          <a:xfrm>
            <a:off x="3605040" y="5170320"/>
            <a:ext cx="766800" cy="4446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6472080" y="1295280"/>
            <a:ext cx="971640" cy="6397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3276720" y="5732640"/>
            <a:ext cx="1095120" cy="8204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10"/>
          <a:stretch/>
        </p:blipFill>
        <p:spPr>
          <a:xfrm>
            <a:off x="3792600" y="2590920"/>
            <a:ext cx="579240" cy="9903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11"/>
          <a:stretch/>
        </p:blipFill>
        <p:spPr>
          <a:xfrm>
            <a:off x="3443400" y="4421160"/>
            <a:ext cx="928440" cy="6541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2"/>
          <a:stretch/>
        </p:blipFill>
        <p:spPr>
          <a:xfrm>
            <a:off x="6657840" y="5559480"/>
            <a:ext cx="785880" cy="8031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3"/>
          <a:stretch/>
        </p:blipFill>
        <p:spPr>
          <a:xfrm>
            <a:off x="3576600" y="3719520"/>
            <a:ext cx="795240" cy="6364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7493040" y="555480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3.5" Flopp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437000" y="30481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37000" y="38116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37000" y="434196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37000" y="51847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437000" y="5649840"/>
            <a:ext cx="1457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493040" y="129528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4"/>
          <a:stretch/>
        </p:blipFill>
        <p:spPr>
          <a:xfrm>
            <a:off x="5780160" y="2125800"/>
            <a:ext cx="1663560" cy="657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7493040" y="22953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5"/>
          <a:stretch/>
        </p:blipFill>
        <p:spPr>
          <a:xfrm>
            <a:off x="1530360" y="1295280"/>
            <a:ext cx="417600" cy="10051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6"/>
          <a:stretch/>
        </p:blipFill>
        <p:spPr>
          <a:xfrm>
            <a:off x="358920" y="1862280"/>
            <a:ext cx="1004760" cy="41724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7493040" y="39862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7"/>
          <a:stretch/>
        </p:blipFill>
        <p:spPr>
          <a:xfrm>
            <a:off x="5986440" y="4002120"/>
            <a:ext cx="1457280" cy="4125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7493040" y="48099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8"/>
          <a:stretch/>
        </p:blipFill>
        <p:spPr>
          <a:xfrm>
            <a:off x="6611760" y="4646520"/>
            <a:ext cx="831960" cy="60336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Miscellaneo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481880" y="30495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S, R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9"/>
          <a:stretch/>
        </p:blipFill>
        <p:spPr>
          <a:xfrm>
            <a:off x="5715000" y="297180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1905120" y="51069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39760" y="61736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0"/>
          <a:stretch/>
        </p:blipFill>
        <p:spPr>
          <a:xfrm>
            <a:off x="3589200" y="1365120"/>
            <a:ext cx="924120" cy="1135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7524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le Cabi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1"/>
          <a:stretch/>
        </p:blipFill>
        <p:spPr>
          <a:xfrm>
            <a:off x="804960" y="4997520"/>
            <a:ext cx="1023840" cy="56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22480" y="2716200"/>
            <a:ext cx="658800" cy="63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1720" y="2133720"/>
            <a:ext cx="836640" cy="49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5640" y="3606840"/>
            <a:ext cx="639720" cy="806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0520" y="4659480"/>
            <a:ext cx="1009440" cy="87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008840" y="6203880"/>
            <a:ext cx="741240" cy="44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3280" y="1357200"/>
            <a:ext cx="142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043000"/>
            <a:ext cx="1370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/Silico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3606840"/>
            <a:ext cx="12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4659480"/>
            <a:ext cx="145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6680" y="6203880"/>
            <a:ext cx="1113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38360" y="5691240"/>
            <a:ext cx="653760" cy="64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5691240"/>
            <a:ext cx="151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3320" y="612792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13320" y="171756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816280" y="1717560"/>
            <a:ext cx="1009440" cy="873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13320" y="2719440"/>
            <a:ext cx="1514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 Management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13320" y="4375080"/>
            <a:ext cx="1514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2627280" y="4257720"/>
            <a:ext cx="1020960" cy="92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43280" y="5259240"/>
            <a:ext cx="1514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16640" y="171756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16640" y="271944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ed Router on File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2568600" y="5248440"/>
            <a:ext cx="1177920" cy="771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21120" y="2590920"/>
            <a:ext cx="665280" cy="974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516640" y="441972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4681440" y="4419720"/>
            <a:ext cx="750960" cy="527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16640" y="4865760"/>
            <a:ext cx="168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6680" y="5334120"/>
            <a:ext cx="1063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mall Hub (10BaseT Hu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6680" y="1511280"/>
            <a:ext cx="1051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Ba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6680" y="2719440"/>
            <a:ext cx="1327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DDI/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DDI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7007400" y="5465880"/>
            <a:ext cx="734760" cy="31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7007400" y="1600200"/>
            <a:ext cx="734760" cy="31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996240" y="2719440"/>
            <a:ext cx="745920" cy="32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816680" y="342900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7210440" y="3429000"/>
            <a:ext cx="633240" cy="91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528480" y="1357200"/>
            <a:ext cx="928800" cy="53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236520" y="1357200"/>
            <a:ext cx="90648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4905360" y="5288040"/>
            <a:ext cx="608040" cy="252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2684520" y="6122880"/>
            <a:ext cx="847800" cy="50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>
            <a:off x="4724280" y="5041800"/>
            <a:ext cx="73512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>
            <a:off x="4932360" y="1523880"/>
            <a:ext cx="630360" cy="100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05080" y="2881440"/>
            <a:ext cx="136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veleng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2"/>
          <a:stretch/>
        </p:blipFill>
        <p:spPr>
          <a:xfrm>
            <a:off x="330120" y="2808360"/>
            <a:ext cx="1041480" cy="620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543640" y="371484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3"/>
          <a:stretch/>
        </p:blipFill>
        <p:spPr>
          <a:xfrm>
            <a:off x="4648320" y="3657600"/>
            <a:ext cx="895320" cy="789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23160" y="2065320"/>
            <a:ext cx="1050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BR91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ble DS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4"/>
          <a:stretch/>
        </p:blipFill>
        <p:spPr>
          <a:xfrm>
            <a:off x="6807240" y="2070000"/>
            <a:ext cx="1041480" cy="44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5"/>
          <a:stretch/>
        </p:blipFill>
        <p:spPr>
          <a:xfrm>
            <a:off x="4638600" y="5638680"/>
            <a:ext cx="924120" cy="3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19880" y="5486400"/>
            <a:ext cx="1685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6"/>
          <a:stretch/>
        </p:blipFill>
        <p:spPr>
          <a:xfrm>
            <a:off x="2438280" y="3430440"/>
            <a:ext cx="1143000" cy="72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10080" y="3443400"/>
            <a:ext cx="1514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orage Solution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gin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7"/>
          <a:stretch/>
        </p:blipFill>
        <p:spPr>
          <a:xfrm>
            <a:off x="4572000" y="6172200"/>
            <a:ext cx="990720" cy="503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24560" y="6172200"/>
            <a:ext cx="168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OS SL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Wireless Router, Added 04/20/2004"/>
          <p:cNvPicPr/>
          <p:nvPr/>
        </p:nvPicPr>
        <p:blipFill>
          <a:blip r:embed="rId28"/>
          <a:stretch/>
        </p:blipFill>
        <p:spPr>
          <a:xfrm>
            <a:off x="6781680" y="4383000"/>
            <a:ext cx="1067040" cy="95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805880" y="4781520"/>
            <a:ext cx="123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4680" y="2771640"/>
            <a:ext cx="746280" cy="800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5360" y="137160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82680" y="1325520"/>
            <a:ext cx="12654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/Switch Processo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81168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37160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52600" y="3505320"/>
            <a:ext cx="699840" cy="101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336920" y="137160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328920" y="1371600"/>
            <a:ext cx="12002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835200" cy="88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023920" y="2362320"/>
            <a:ext cx="892440" cy="52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95480" y="23623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8640" y="1371600"/>
            <a:ext cx="123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6019920" y="1371600"/>
            <a:ext cx="877680" cy="863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2362320"/>
            <a:ext cx="104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AN2LA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6480" y="2209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We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505320"/>
            <a:ext cx="180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5038560" y="3505320"/>
            <a:ext cx="789120" cy="77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739800" y="137160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763040" y="2851200"/>
            <a:ext cx="1217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0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648320"/>
            <a:ext cx="1800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4791240" y="4648320"/>
            <a:ext cx="1036440" cy="655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505320" y="5562720"/>
            <a:ext cx="1217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2774880" y="5562720"/>
            <a:ext cx="695520" cy="74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52600" y="472428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304920" y="4572000"/>
            <a:ext cx="1152360" cy="781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56600" y="1371600"/>
            <a:ext cx="81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7508880" y="1371600"/>
            <a:ext cx="839880" cy="723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6973920" y="2209680"/>
            <a:ext cx="917640" cy="538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71760" y="464832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5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5"/>
          <a:stretch/>
        </p:blipFill>
        <p:spPr>
          <a:xfrm>
            <a:off x="2792520" y="4648320"/>
            <a:ext cx="600120" cy="591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6"/>
          <a:stretch/>
        </p:blipFill>
        <p:spPr>
          <a:xfrm>
            <a:off x="4329000" y="2362320"/>
            <a:ext cx="812880" cy="793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380880" y="2209680"/>
            <a:ext cx="858960" cy="1246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259092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X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228600" y="5567400"/>
            <a:ext cx="1216080" cy="833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7920" y="556740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ment Engin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ME 11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>
            <a:off x="1828800" y="3719520"/>
            <a:ext cx="531720" cy="776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62320" y="3719520"/>
            <a:ext cx="119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C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352680" y="3710160"/>
            <a:ext cx="540000" cy="78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86200" y="37195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al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003480"/>
            <a:ext cx="144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Transport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>
            <a:off x="1981080" y="2992320"/>
            <a:ext cx="914400" cy="51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2"/>
          <a:stretch/>
        </p:blipFill>
        <p:spPr>
          <a:xfrm>
            <a:off x="6603840" y="4475160"/>
            <a:ext cx="1143000" cy="49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773840" y="4443480"/>
            <a:ext cx="121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B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3"/>
          <a:stretch/>
        </p:blipFill>
        <p:spPr>
          <a:xfrm>
            <a:off x="4648320" y="5486400"/>
            <a:ext cx="1218960" cy="717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91320" y="5672160"/>
            <a:ext cx="180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4"/>
          <a:stretch/>
        </p:blipFill>
        <p:spPr>
          <a:xfrm>
            <a:off x="6629400" y="5005440"/>
            <a:ext cx="1143000" cy="569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772400" y="5052960"/>
            <a:ext cx="1217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5"/>
          <a:stretch/>
        </p:blipFill>
        <p:spPr>
          <a:xfrm>
            <a:off x="6781680" y="5651640"/>
            <a:ext cx="704880" cy="1130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67480" y="6033960"/>
            <a:ext cx="1217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P Prox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359712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6"/>
          <a:stretch/>
        </p:blipFill>
        <p:spPr>
          <a:xfrm>
            <a:off x="6985080" y="3581280"/>
            <a:ext cx="768240" cy="82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86200" y="4791240"/>
            <a:ext cx="1238400" cy="1228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59440" y="495936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4310 End Office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90520" y="16398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Ran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90520" y="29592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Son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69720" y="163980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39840" y="3051000"/>
            <a:ext cx="893520" cy="52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38320" y="403056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340000" y="4108320"/>
            <a:ext cx="636480" cy="49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38320" y="335124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38560" y="3433680"/>
            <a:ext cx="637920" cy="422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938320" y="466740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0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5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349360" y="4846680"/>
            <a:ext cx="62712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90520" y="5638680"/>
            <a:ext cx="18003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ge Label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Net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8000" y="5811840"/>
            <a:ext cx="855360" cy="500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105520" y="1479600"/>
            <a:ext cx="180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4334040" y="1335240"/>
            <a:ext cx="771480" cy="758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105520" y="3139920"/>
            <a:ext cx="1217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o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4210200" y="3149640"/>
            <a:ext cx="895320" cy="772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68640" y="163980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Ol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2408400" y="1639800"/>
            <a:ext cx="698400" cy="860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2367000" y="2533680"/>
            <a:ext cx="877680" cy="50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362480" y="6005520"/>
            <a:ext cx="21146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ultilayer Switch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2513160" y="6051600"/>
            <a:ext cx="610920" cy="600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190520" y="498168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ge Label 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353880" y="5084640"/>
            <a:ext cx="879480" cy="511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3149640" y="6051600"/>
            <a:ext cx="611280" cy="598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3778200" y="6051600"/>
            <a:ext cx="611280" cy="598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90520" y="409896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6"/>
          <a:stretch/>
        </p:blipFill>
        <p:spPr>
          <a:xfrm>
            <a:off x="270000" y="3922560"/>
            <a:ext cx="963360" cy="836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"/>
          <a:stretch/>
        </p:blipFill>
        <p:spPr>
          <a:xfrm>
            <a:off x="4184640" y="2217600"/>
            <a:ext cx="920880" cy="90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105520" y="2057400"/>
            <a:ext cx="19810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Serv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or Voice Enabled Communications Serv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3927600" y="4038480"/>
            <a:ext cx="117792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105520" y="40384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abled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9"/>
          <a:stretch/>
        </p:blipFill>
        <p:spPr>
          <a:xfrm>
            <a:off x="6705720" y="1332000"/>
            <a:ext cx="892080" cy="877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620120" y="14540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gra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01000" y="23414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th T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6781680" y="2265480"/>
            <a:ext cx="118908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96080" y="3048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>
            <a:off x="6629400" y="3048120"/>
            <a:ext cx="950760" cy="53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380880" y="2232000"/>
            <a:ext cx="858960" cy="587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19320" y="2317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92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e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0120" y="411480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3"/>
          <a:stretch/>
        </p:blipFill>
        <p:spPr>
          <a:xfrm>
            <a:off x="6781680" y="3778200"/>
            <a:ext cx="795600" cy="1474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20120" y="56246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Unity 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4"/>
          <a:stretch/>
        </p:blipFill>
        <p:spPr>
          <a:xfrm>
            <a:off x="6553080" y="5486400"/>
            <a:ext cx="1047960" cy="91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90520" y="2401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Security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2254320"/>
            <a:ext cx="960480" cy="869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28600" y="3157560"/>
            <a:ext cx="714240" cy="1033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73080" y="334152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nt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28600" y="4300560"/>
            <a:ext cx="714240" cy="10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456084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enter Switch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28600" y="5430960"/>
            <a:ext cx="822240" cy="936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90520" y="58374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865600" y="1295280"/>
            <a:ext cx="850680" cy="10670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716280" y="16002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OS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3720" y="41148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ll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638440" y="562752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5715000" y="5105520"/>
            <a:ext cx="1219320" cy="931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716280" y="59450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05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52578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32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6230880" y="3382920"/>
            <a:ext cx="635040" cy="630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773680" y="1295280"/>
            <a:ext cx="1092240" cy="63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5773680" y="1981080"/>
            <a:ext cx="1092240" cy="630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5773680" y="2666880"/>
            <a:ext cx="1092240" cy="630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993000" y="14479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93000" y="21337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93000" y="28195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GX 82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93000" y="3460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oice-Enabled AT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>
            <a:off x="6033960" y="4114800"/>
            <a:ext cx="831960" cy="90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993000" y="42670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5621400" y="6095880"/>
            <a:ext cx="1454040" cy="586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221600" y="612792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67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4"/>
          <a:stretch/>
        </p:blipFill>
        <p:spPr>
          <a:xfrm>
            <a:off x="2590920" y="3909960"/>
            <a:ext cx="1342800" cy="89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2832120" y="4829040"/>
            <a:ext cx="884160" cy="773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716280" y="49086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Telephony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3308400"/>
            <a:ext cx="16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X Firewal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6"/>
          <a:stretch/>
        </p:blipFill>
        <p:spPr>
          <a:xfrm>
            <a:off x="2286000" y="3352680"/>
            <a:ext cx="928800" cy="540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7"/>
          <a:stretch/>
        </p:blipFill>
        <p:spPr>
          <a:xfrm>
            <a:off x="3278160" y="3352680"/>
            <a:ext cx="927000" cy="540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8"/>
          <a:stretch/>
        </p:blipFill>
        <p:spPr>
          <a:xfrm>
            <a:off x="2819520" y="2438280"/>
            <a:ext cx="990360" cy="831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809880" y="26668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 with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34920" y="13669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ntri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9"/>
          <a:stretch/>
        </p:blipFill>
        <p:spPr>
          <a:xfrm>
            <a:off x="457200" y="1366920"/>
            <a:ext cx="523800" cy="84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116080" y="1295280"/>
            <a:ext cx="924120" cy="846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06360" y="15238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 DS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41120" y="1371600"/>
            <a:ext cx="1060560" cy="968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216080" y="28209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6080" y="43448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76320" y="2438280"/>
            <a:ext cx="1216080" cy="1200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16080" y="55180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CS 7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2760" y="1447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PN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49400" y="3733920"/>
            <a:ext cx="1050840" cy="1260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164040" y="2971800"/>
            <a:ext cx="1541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DM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ntent Distribution Manag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097000" y="3876840"/>
            <a:ext cx="1050840" cy="618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164040" y="396864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AD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383000" y="1468440"/>
            <a:ext cx="1077840" cy="663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450040" y="160020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5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2097000" y="4592520"/>
            <a:ext cx="1050840" cy="619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64040" y="4756320"/>
            <a:ext cx="154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4383000" y="2286000"/>
            <a:ext cx="1033560" cy="601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30480" y="55627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4419720" y="3124080"/>
            <a:ext cx="954000" cy="1219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50040" y="342900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5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0"/>
          <a:stretch/>
        </p:blipFill>
        <p:spPr>
          <a:xfrm>
            <a:off x="4307040" y="4554360"/>
            <a:ext cx="1066680" cy="62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450040" y="4572000"/>
            <a:ext cx="1541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orag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6629400" y="1373040"/>
            <a:ext cx="1341360" cy="684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2"/>
          <a:stretch/>
        </p:blipFill>
        <p:spPr>
          <a:xfrm>
            <a:off x="6553080" y="3430440"/>
            <a:ext cx="1341720" cy="684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926480" y="1390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2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2386080"/>
            <a:ext cx="121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5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6480" y="343044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N 590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6629400" y="2157480"/>
            <a:ext cx="1343160" cy="1195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848720" y="448308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7086600" y="4178160"/>
            <a:ext cx="812880" cy="12654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7405560" y="5486400"/>
            <a:ext cx="722520" cy="1143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077320" y="567072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6"/>
          <a:stretch/>
        </p:blipFill>
        <p:spPr>
          <a:xfrm>
            <a:off x="1828800" y="3029040"/>
            <a:ext cx="1374840" cy="799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7"/>
          <a:stretch/>
        </p:blipFill>
        <p:spPr>
          <a:xfrm>
            <a:off x="152280" y="5181480"/>
            <a:ext cx="1027080" cy="1216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8"/>
          <a:stretch/>
        </p:blipFill>
        <p:spPr>
          <a:xfrm>
            <a:off x="6154560" y="5257800"/>
            <a:ext cx="723960" cy="1487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40360" y="54864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C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57960" y="2440080"/>
            <a:ext cx="15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SS 1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9"/>
          <a:stretch/>
        </p:blipFill>
        <p:spPr>
          <a:xfrm>
            <a:off x="2152800" y="5334120"/>
            <a:ext cx="782640" cy="1201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0"/>
          <a:stretch/>
        </p:blipFill>
        <p:spPr>
          <a:xfrm>
            <a:off x="3886200" y="5257800"/>
            <a:ext cx="887400" cy="660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800600" y="525780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1"/>
          <a:stretch/>
        </p:blipFill>
        <p:spPr>
          <a:xfrm>
            <a:off x="3849840" y="6019920"/>
            <a:ext cx="950760" cy="627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00600" y="6005520"/>
            <a:ext cx="1541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form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2"/>
          <a:stretch/>
        </p:blipFill>
        <p:spPr>
          <a:xfrm>
            <a:off x="2116080" y="2146320"/>
            <a:ext cx="932040" cy="847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174840" y="2317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S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rmin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1263600" cy="1371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1206360" cy="947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371600" y="57913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her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0020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52880" y="5715000"/>
            <a:ext cx="3353040" cy="317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8381880" y="3200400"/>
            <a:ext cx="317520" cy="3349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553080" y="4419720"/>
            <a:ext cx="22860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ivity,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fferen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464832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5410080" y="411480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5486400" y="1447920"/>
            <a:ext cx="3429000" cy="77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019920" y="1498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Network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8"/>
          <a:stretch/>
        </p:blipFill>
        <p:spPr>
          <a:xfrm>
            <a:off x="5486400" y="1828800"/>
            <a:ext cx="3395520" cy="1333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19920" y="228600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3259080" y="1295280"/>
            <a:ext cx="855720" cy="1260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191120" y="17542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WDM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277488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3048120" y="2619360"/>
            <a:ext cx="1177920" cy="885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228600" y="2830680"/>
            <a:ext cx="1371600" cy="598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2971800" y="3886200"/>
            <a:ext cx="1211400" cy="990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191120" y="414648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3"/>
          <a:stretch/>
        </p:blipFill>
        <p:spPr>
          <a:xfrm>
            <a:off x="228600" y="3581280"/>
            <a:ext cx="1371600" cy="922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3733920"/>
            <a:ext cx="2514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ual Mod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80880" y="1523880"/>
            <a:ext cx="1143000" cy="7336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447920" y="16430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1398600" cy="784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1398600" cy="78408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 (Cont.)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4382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SC3000 Virtual Switch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5040" y="3352680"/>
            <a:ext cx="868320" cy="1154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90720" y="1447920"/>
            <a:ext cx="1523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2200 Signaling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036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SC3000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2200 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80880" y="2330280"/>
            <a:ext cx="474840" cy="974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143000" y="483084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380880" y="4525920"/>
            <a:ext cx="812880" cy="1265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971800" y="480060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72216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228600" y="1295280"/>
            <a:ext cx="739800" cy="939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581280" y="259092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/TV Broadcas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160020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P/TV Content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44792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4208400" y="3276720"/>
            <a:ext cx="1117800" cy="11016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05320" y="353700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versal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5884920" y="4648320"/>
            <a:ext cx="1417680" cy="7444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210440" y="468000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6113520" y="5467320"/>
            <a:ext cx="1108080" cy="1162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238880" y="57722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lliSwitch S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1"/>
          <a:stretch/>
        </p:blipFill>
        <p:spPr>
          <a:xfrm>
            <a:off x="6858000" y="3429000"/>
            <a:ext cx="712800" cy="1143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543800" y="373392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t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2"/>
          <a:stretch/>
        </p:blipFill>
        <p:spPr>
          <a:xfrm>
            <a:off x="4038480" y="4683240"/>
            <a:ext cx="722520" cy="1143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10240" y="4867200"/>
            <a:ext cx="106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isco Bran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3"/>
          <a:stretch/>
        </p:blipFill>
        <p:spPr>
          <a:xfrm>
            <a:off x="5867280" y="2438280"/>
            <a:ext cx="959040" cy="10288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58000" y="2576520"/>
            <a:ext cx="175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Carrier Routing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4944960" y="1353960"/>
            <a:ext cx="191304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5"/>
          <a:stretch/>
        </p:blipFill>
        <p:spPr>
          <a:xfrm>
            <a:off x="380880" y="5867280"/>
            <a:ext cx="1324080" cy="849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00200" y="6097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6"/>
          <a:stretch/>
        </p:blipFill>
        <p:spPr>
          <a:xfrm>
            <a:off x="2543040" y="5867280"/>
            <a:ext cx="1565280" cy="8496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038480" y="6097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01840" y="167652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tomatic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ection Switch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cons: Cisco Products, Optical (Cont.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39920" y="295740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nneliz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423864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catenated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25760" y="5486400"/>
            <a:ext cx="1650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Cross- 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1838160" cy="733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457200" y="5181480"/>
            <a:ext cx="1190520" cy="1171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675320" y="23623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3807000" y="2284560"/>
            <a:ext cx="895320" cy="495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6920" y="30481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S151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386856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NET 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53080" y="487692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45080" y="5757840"/>
            <a:ext cx="181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gital Cross-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3654360" y="3562200"/>
            <a:ext cx="1219320" cy="11620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3730680" y="4724280"/>
            <a:ext cx="1038240" cy="905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3749760" y="5638680"/>
            <a:ext cx="895320" cy="881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8"/>
          <a:stretch/>
        </p:blipFill>
        <p:spPr>
          <a:xfrm>
            <a:off x="3959280" y="1600200"/>
            <a:ext cx="649080" cy="592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676760" y="1754280"/>
            <a:ext cx="126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228600" y="1371600"/>
            <a:ext cx="1190520" cy="1200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6172200" y="1427040"/>
            <a:ext cx="1060560" cy="633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7315200" y="1427040"/>
            <a:ext cx="1676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cal Services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3892680" y="2830680"/>
            <a:ext cx="981000" cy="649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7238880" y="243828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107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2"/>
          <a:stretch/>
        </p:blipFill>
        <p:spPr>
          <a:xfrm>
            <a:off x="6049800" y="2244600"/>
            <a:ext cx="1176480" cy="69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Cisco Corporate ID Dept</dc:creator>
  <dc:description/>
  <dc:language>en-US</dc:language>
  <cp:lastModifiedBy>Bev Fannion (bfannion)</cp:lastModifiedBy>
  <cp:lastPrinted>1999-01-27T00:54:54Z</cp:lastPrinted>
  <dcterms:modified xsi:type="dcterms:W3CDTF">2004-06-01T17:08:59Z</dcterms:modified>
  <cp:revision>0</cp:revision>
  <dc:subject>Guide for Creating Powerpoint Presentations</dc:subject>
  <dc:title>Cisco Presentation Guide</dc:title>
</cp:coreProperties>
</file>